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2.wmf" ContentType="image/x-wmf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618-17C7-48F4-AFD7-1C6F5ADF4E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5579-EE52-42DC-A4C2-CD4B8D41032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B767-67A9-4A88-9260-05D3FE82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26DB-0A6D-492A-BC03-CB2B23FF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803-7D5C-41BB-A99F-547EDDC0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4694-D1CA-4245-AD71-032488E6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E655-BB86-4ED9-8874-FF12D3A7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1BBB-AF67-46D4-8ED6-4FCC731D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284E-2129-4D30-9EB3-EF993A3C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4785-DAB8-410C-85D8-F28CB2D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EB53-F465-4FFA-9FE2-39B7FD72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51EA-B385-4F9D-8BBA-1F189A91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DC00-6D11-4DDD-88AC-B778722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7A1-E385-47BD-B45A-D0E581F8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BCD6-4E01-44B4-B190-3C1F924A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4676-B04E-4963-A326-E6BF448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841-7007-4FE9-B883-1799D04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11BB-80E1-4127-BE8A-C57A271C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2836-2C18-4ABF-87B0-DC7A9FD8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46911-A3E7-42E4-92E4-AC28BB9D0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B6334-3E23-4E3E-88B8-23779D93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CB986-3E9D-45C4-A13A-316BF4C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1776B-7A79-4B93-818F-DC251C3D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DAC63-B84D-4486-A0AE-F482541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960-B531-45AF-8513-F96AC55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EA539-71DF-4BD8-84DD-97ED3329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7E42E9-8B0D-495E-9012-19751C8A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602F7-BA9C-4222-875F-5840F1B4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BDC43-8801-47B6-A1CB-8150DA79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30A50-93F6-408A-B4D7-92ABDFEF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E84BF-4F50-47F1-B73A-8A5AE126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CDB91-C0BA-4AC9-A052-E17AAE28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8ABBE-974F-4D23-98E0-764ADF6E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F0E5B6-5226-4407-A83B-93890111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A53614-5105-418F-9418-887FBBF9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361-96EA-441E-82E1-256BEC7A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6E567-A1A1-4B8A-935C-31B31896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7048CF-4378-4FBD-84E8-F232C1F6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F8A5CC-8931-4D2A-9938-AB26A597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6DB7E6-0B05-42D5-BA26-89F77B9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104C6-ADDE-4190-900A-067B4D50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EE645-9AA0-4CF2-A836-19E3904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FAB1D-8AEA-4CA0-8090-90C1CC91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A37A7-F238-42EE-A5B7-452E3DD5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418399-CE12-4C4C-AF01-CB1683EB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685F0-9B0D-40FD-8F2F-60E544F9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067B-B3F8-46A4-BA31-8CDF969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7A30C-96DC-43C8-8DC8-DD74A63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BF6E1-BF7E-4B3A-98D6-F9D888DD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51CB9-8BB4-47CC-88BB-1E50256B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F6EB7-D96C-4C16-B707-09E04432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30B97-0486-4AB0-ABD3-763A822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ED423-CFBA-424E-95E6-F0ECFC84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902E7-00EA-4348-A790-E2340262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CEFD06-0F47-4F39-9B0F-38F76D4E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4062AC-9DBD-48A4-9E99-1093374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8B35A-776E-4FBE-B016-87FB4DFA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B29-160D-43E3-AD9E-20E63987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54FFE8-3AEB-49C5-95AB-4A63A5B0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4C10-2598-4169-BD3E-3D06BE4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56E5B-3917-472D-AC97-501D4F26B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CCE80-497F-4436-AC0D-7297C68F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A5DAF-C16B-46E9-8219-6D8770E9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930CF-ADCA-40C7-B035-9351AFC4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358C-0A02-4C33-B398-B8D31BAF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D6CD8-11B2-4DB5-B867-4B3CEBED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D4A6E7-FB13-46F2-9E8A-AD0C837E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90858-D849-4A32-A206-674DFF1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70D6-688B-4FD4-8F22-B62D34F0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702B1-89AF-47BD-AC52-9C8D3CD9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9957-1EF5-44B3-B7BE-475FC29B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21A91-FFAF-4D4E-AFC8-2F21672D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667B67-9B0F-424A-B8C3-E931BAD8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B51CA-7F9A-4A12-B213-966C2A91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E53D6-BFC4-4443-A219-526279E4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77916F-445F-4B32-9EBC-32BA6606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588071-1762-4F3F-8C0D-0874C0E5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A4DF5-29C6-4BDA-B511-FA246258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D3E8AE-E678-4FED-BF47-A91BC29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84F-C169-4B08-A1EC-AFE74FF6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B14535-63F8-467B-9F1A-52BC76FC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D6CB8-00F3-4E54-83B7-BB5E793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87FAF-8967-4403-8355-2066990B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3208D-BC4A-4B82-AFBB-61DE5C6F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AE1EE1-7378-4E7E-8037-8CC27608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F572D-B265-46E3-9514-E6D135FA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6A115-AF86-4029-8B53-07F01155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530D8-8F1A-4A0A-BB91-0FEC8951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A8567-80AE-4FB6-A1BF-5D64866E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DD1DA-6CCC-4EF0-97B1-307EDAFB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956A-3C70-4CF2-B86C-078FF0B3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51947-C0ED-4665-A285-4D61231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90C27-8C93-470C-9CD8-5C442DA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B024B-E833-4858-A3DB-9B1B6D2A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27251-BEF9-468F-9A55-828EE32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ACF96D-19AD-4889-8930-B000A337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DAE04-61C7-4CFB-9682-07D20547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53B06-FD03-46B1-9F3D-1FE95DDE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767-6425-4DF1-9E46-851DB24431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65F-5027-48E3-A194-883BA3C58123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D25-0C05-4BC6-B86A-3DB8A0C0FF8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26E5-3946-47CF-B501-C68BC3F241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5BF-2AFA-4122-B9F8-23DC546DB6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046-68E1-4C61-B196-2356362AA2DF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74E3-9B88-4FE1-83B1-ADECD1CDE379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A2BC-55D0-4AAA-ACC8-1F32C0ECE1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nesty.org/" TargetMode="External"/><Relationship Id="rId2" Type="http://schemas.openxmlformats.org/officeDocument/2006/relationships/hyperlink" Target="http://www.jstor.org/stable/3180761. Retrieved on 2009-04-17" TargetMode="External"/><Relationship Id="rId3" Type="http://schemas.openxmlformats.org/officeDocument/2006/relationships/hyperlink" Target="http://203.147.147.39/achievement/index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259,4,Scope of work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AMNESTY INTERNATIONAL(AI)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By Yongzhi, Clement, Milton, Derrick, YiXiang, Liki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9" name="Picture 3" descr="amnesty-international-uk.jpg"/>
          <p:cNvPicPr/>
          <p:nvPr/>
        </p:nvPicPr>
        <p:blipFill>
          <a:blip r:embed="rId1"/>
          <a:stretch/>
        </p:blipFill>
        <p:spPr>
          <a:xfrm>
            <a:off x="2928960" y="428760"/>
            <a:ext cx="2857320" cy="4057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amnesty.jpg"/>
          <p:cNvPicPr/>
          <p:nvPr/>
        </p:nvPicPr>
        <p:blipFill>
          <a:blip r:embed="rId2"/>
          <a:stretch/>
        </p:blipFill>
        <p:spPr>
          <a:xfrm>
            <a:off x="1143000" y="4643280"/>
            <a:ext cx="110484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llenges faced by A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71680" y="2071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tention/Abduction (faced by human rights defender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Smear Campaigns (delegitimize, slander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ureaucratic Barriers (hamper organization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stricting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ny legal registration, or cease ope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Obstruct fact-finding visi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arassme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ily (such as phone tapping, surveillan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xtreme (freezing assets, home raids, confiscation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94" name="Rectangle 4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6486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onale for choosing A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12360" y="1599840"/>
            <a:ext cx="574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Longes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history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roadest nam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recognition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lieved to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set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the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standards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for the human rights movements as a whol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Effectiv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Pressure has had an effect on people’s own live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Governments are persuaded to change their laws and practic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ontroversy especially concerning bia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ence subject to (our) pertinent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crutin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amnesty3.jpg"/>
          <p:cNvPicPr/>
          <p:nvPr/>
        </p:nvPicPr>
        <p:blipFill>
          <a:blip r:embed="rId2"/>
          <a:stretch/>
        </p:blipFill>
        <p:spPr>
          <a:xfrm>
            <a:off x="6357960" y="2857680"/>
            <a:ext cx="257184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rect/Personal impac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Human rights abuses anywhere are the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concern of peopl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everywhere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Locally in Singapor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Death penalty subject to scruti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Restrictive laws and defamation suits to muzzle critic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If AI succeeds in ‘persuading’ the Singaporean Government, this will have great implications especially concerning media freedom and publici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Though this is highly unlikel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1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99680" y="1714680"/>
            <a:ext cx="57150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The Stop Torture campaign (Oct 2000 - Dec 2001) is AI's third global campaign on tort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Follows AI's first campaign denouncing torture (1972-1973) and its second focusing on the prevention of torture (1984)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These campaigns contributed to the UN's adoption of the Convention against Torture, on (Human Rights Day) 10 December 1984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Rectangle 3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amnesty2.jpg"/>
          <p:cNvPicPr/>
          <p:nvPr/>
        </p:nvPicPr>
        <p:blipFill>
          <a:blip r:embed="rId3"/>
          <a:stretch/>
        </p:blipFill>
        <p:spPr>
          <a:xfrm>
            <a:off x="6500880" y="2786040"/>
            <a:ext cx="19447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hieve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In the first five months of the Stop Torture campaign, over 19,500 subscribers from 188 countries used this innovative form of campaigning on behalf of eight individua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Within 12 hours of each action, an average of 2,500 appeals was generated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Three of the eight individuals (in Turkey, Mexico, and Ecuador) have been release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0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7193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Validity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orture is cruel, inhuman and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degrading human dignity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vernments have invoked threats of terrorism to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cover up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and justify its use, hence the need to </a:t>
            </a:r>
            <a:r>
              <a:rPr b="1" lang="en-US" sz="2200" spc="-1" strike="noStrike">
                <a:solidFill>
                  <a:srgbClr val="000000"/>
                </a:solidFill>
                <a:latin typeface="Tw Cen MT"/>
              </a:rPr>
              <a:t>strengthen importance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of this issue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Soundn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Key issue: Can 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governments stop shielding torturers and accept responsibility for their crimes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Governments have a clear duty to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protect their civilian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 population from violent attacks, including terrorist act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Governments who are concerned with their image will be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spurred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 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Those who do not stop torture will ironically be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harming their civilians</a:t>
            </a:r>
            <a:r>
              <a:rPr b="0" lang="en-SG" sz="2200" spc="-1" strike="noStrike">
                <a:solidFill>
                  <a:srgbClr val="000000"/>
                </a:solidFill>
                <a:latin typeface="Tw Cen MT"/>
              </a:rPr>
              <a:t> and thus be </a:t>
            </a:r>
            <a:r>
              <a:rPr b="1" lang="en-SG" sz="2200" spc="-1" strike="noStrike">
                <a:solidFill>
                  <a:srgbClr val="000000"/>
                </a:solidFill>
                <a:latin typeface="Tw Cen MT"/>
              </a:rPr>
              <a:t>subject to severe criticism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414" name="Rectangle 4" descr=""/>
          <p:cNvPicPr/>
          <p:nvPr/>
        </p:nvPicPr>
        <p:blipFill>
          <a:blip r:embed="rId2"/>
          <a:stretch/>
        </p:blipFill>
        <p:spPr>
          <a:xfrm>
            <a:off x="262080" y="75564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C:\Users\Peter888\AppData\Local\Microsoft\Windows\Temporary Internet Files\Content.IE5\S5CKZYMN\MCWB01372_0000[1].gif"/>
          <p:cNvPicPr/>
          <p:nvPr/>
        </p:nvPicPr>
        <p:blipFill>
          <a:blip r:embed="rId3"/>
          <a:stretch/>
        </p:blipFill>
        <p:spPr>
          <a:xfrm>
            <a:off x="2357280" y="164304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C:\Users\Peter888\AppData\Local\Microsoft\Windows\Temporary Internet Files\Content.IE5\S5CKZYMN\MCWB01372_0000[1].gif"/>
          <p:cNvPicPr/>
          <p:nvPr/>
        </p:nvPicPr>
        <p:blipFill>
          <a:blip r:embed="rId4"/>
          <a:stretch/>
        </p:blipFill>
        <p:spPr>
          <a:xfrm>
            <a:off x="2428920" y="32148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3" descr="C:\Users\Peter888\AppData\Local\Microsoft\Windows\Temporary Internet Files\Content.IE5\S5CKZYMN\MCWB01372_0000[1].gif"/>
          <p:cNvPicPr/>
          <p:nvPr/>
        </p:nvPicPr>
        <p:blipFill>
          <a:blip r:embed="rId5"/>
          <a:stretch/>
        </p:blipFill>
        <p:spPr>
          <a:xfrm>
            <a:off x="642960" y="6286680"/>
            <a:ext cx="352440" cy="333360"/>
          </a:xfrm>
          <a:prstGeom prst="rect">
            <a:avLst/>
          </a:prstGeom>
          <a:ln w="0">
            <a:noFill/>
          </a:ln>
        </p:spPr>
      </p:pic>
      <p:sp>
        <p:nvSpPr>
          <p:cNvPr id="418" name="TextBox 9"/>
          <p:cNvSpPr/>
          <p:nvPr/>
        </p:nvSpPr>
        <p:spPr>
          <a:xfrm>
            <a:off x="1071720" y="6286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Is’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 Is n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4" descr="C:\Users\Peter888\AppData\Local\Microsoft\Windows\Temporary Internet Files\Content.IE5\Z664YCSX\MCNA01595A0000[1].gif"/>
          <p:cNvPicPr/>
          <p:nvPr/>
        </p:nvPicPr>
        <p:blipFill>
          <a:blip r:embed="rId6"/>
          <a:stretch/>
        </p:blipFill>
        <p:spPr>
          <a:xfrm>
            <a:off x="2357280" y="6215040"/>
            <a:ext cx="5004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500"/>
                                        <p:tgtEl>
                                          <p:spTgt spid="4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360" y="1599840"/>
            <a:ext cx="81025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Releva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ilure to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uphold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international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oblig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Even USA  has undermined human rights in the context of counter-terrorism while continuing to pay lip service to international oblig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However, relevance in our local context is limited due to these acts often taking place under </a:t>
            </a:r>
            <a:r>
              <a:rPr b="1" lang="en-SG" sz="2400" spc="-1" strike="noStrike">
                <a:solidFill>
                  <a:srgbClr val="000000"/>
                </a:solidFill>
                <a:latin typeface="Tw Cen MT"/>
              </a:rPr>
              <a:t>clandestine</a:t>
            </a: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 conditions (convenience of secrecy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100" spc="-1" strike="noStrike">
                <a:solidFill>
                  <a:srgbClr val="000000"/>
                </a:solidFill>
                <a:latin typeface="Tw Cen MT"/>
              </a:rPr>
              <a:t>Moreover, little concrete action taken to effectively undertake investigations (due to fear and </a:t>
            </a:r>
            <a:r>
              <a:rPr b="1" lang="en-SG" sz="2100" spc="-1" strike="noStrike">
                <a:solidFill>
                  <a:srgbClr val="000000"/>
                </a:solidFill>
                <a:latin typeface="Tw Cen MT"/>
              </a:rPr>
              <a:t>implications of exposure</a:t>
            </a:r>
            <a:r>
              <a:rPr b="0" lang="en-SG" sz="21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3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Users\Peter888\AppData\Local\Microsoft\Windows\Temporary Internet Files\Content.IE5\S5CKZYMN\MCWB01372_0000[1].gif"/>
          <p:cNvPicPr/>
          <p:nvPr/>
        </p:nvPicPr>
        <p:blipFill>
          <a:blip r:embed="rId3"/>
          <a:stretch/>
        </p:blipFill>
        <p:spPr>
          <a:xfrm>
            <a:off x="642960" y="6286680"/>
            <a:ext cx="352440" cy="333360"/>
          </a:xfrm>
          <a:prstGeom prst="rect">
            <a:avLst/>
          </a:prstGeom>
          <a:ln w="0">
            <a:noFill/>
          </a:ln>
        </p:spPr>
      </p:pic>
      <p:sp>
        <p:nvSpPr>
          <p:cNvPr id="425" name="TextBox 6"/>
          <p:cNvSpPr/>
          <p:nvPr/>
        </p:nvSpPr>
        <p:spPr>
          <a:xfrm>
            <a:off x="1071720" y="6286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Is’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notes ‘ Is not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6" name="Picture 4" descr="C:\Users\Peter888\AppData\Local\Microsoft\Windows\Temporary Internet Files\Content.IE5\Z664YCSX\MCNA01595A0000[1].gif"/>
          <p:cNvPicPr/>
          <p:nvPr/>
        </p:nvPicPr>
        <p:blipFill>
          <a:blip r:embed="rId4"/>
          <a:stretch/>
        </p:blipFill>
        <p:spPr>
          <a:xfrm>
            <a:off x="2357280" y="6215040"/>
            <a:ext cx="500400" cy="5047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C:\Users\Peter888\AppData\Local\Microsoft\Windows\Temporary Internet Files\Content.IE5\S5CKZYMN\MCWB01372_0000[1].gif"/>
          <p:cNvPicPr/>
          <p:nvPr/>
        </p:nvPicPr>
        <p:blipFill>
          <a:blip r:embed="rId5"/>
          <a:stretch/>
        </p:blipFill>
        <p:spPr>
          <a:xfrm>
            <a:off x="7929720" y="5715000"/>
            <a:ext cx="352440" cy="3333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C:\Users\Peter888\AppData\Local\Microsoft\Windows\Temporary Internet Files\Content.IE5\Z664YCSX\MCNA01595A0000[1].gif"/>
          <p:cNvPicPr/>
          <p:nvPr/>
        </p:nvPicPr>
        <p:blipFill>
          <a:blip r:embed="rId6"/>
          <a:stretch/>
        </p:blipFill>
        <p:spPr>
          <a:xfrm>
            <a:off x="8286840" y="5643720"/>
            <a:ext cx="500040" cy="504720"/>
          </a:xfrm>
          <a:prstGeom prst="rect">
            <a:avLst/>
          </a:prstGeom>
          <a:ln w="0">
            <a:noFill/>
          </a:ln>
        </p:spPr>
      </p:pic>
      <p:pic>
        <p:nvPicPr>
          <p:cNvPr id="429" name="Rectangle 10" descr=""/>
          <p:cNvPicPr/>
          <p:nvPr/>
        </p:nvPicPr>
        <p:blipFill>
          <a:blip r:embed="rId7"/>
          <a:stretch/>
        </p:blipFill>
        <p:spPr>
          <a:xfrm>
            <a:off x="-792000" y="5132520"/>
            <a:ext cx="102963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5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12720" y="2214360"/>
            <a:ext cx="815328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Failur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to address the underlying proble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States have made their own self-interest in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removing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a particular individual their priority, rather than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seeking to change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the underlying problem of torture in the receiving country as a wh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This is a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betrayal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f some of the state’s most fundamental obligations in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international human rights law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Moral degradation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f s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Negligen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f victi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433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34" name="Rectangle 5" descr=""/>
          <p:cNvPicPr/>
          <p:nvPr/>
        </p:nvPicPr>
        <p:blipFill>
          <a:blip r:embed="rId3"/>
          <a:stretch/>
        </p:blipFill>
        <p:spPr>
          <a:xfrm>
            <a:off x="1116000" y="1536840"/>
            <a:ext cx="68324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ffort evalu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37" name="Rectangle 4" descr=""/>
          <p:cNvPicPr/>
          <p:nvPr/>
        </p:nvPicPr>
        <p:blipFill>
          <a:blip r:embed="rId2"/>
          <a:stretch/>
        </p:blipFill>
        <p:spPr>
          <a:xfrm>
            <a:off x="291960" y="762120"/>
            <a:ext cx="8802720" cy="178596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5" descr=""/>
          <p:cNvPicPr/>
          <p:nvPr/>
        </p:nvPicPr>
        <p:blipFill>
          <a:blip r:embed="rId3"/>
          <a:stretch/>
        </p:blipFill>
        <p:spPr>
          <a:xfrm>
            <a:off x="1206360" y="1420920"/>
            <a:ext cx="6804000" cy="865080"/>
          </a:xfrm>
          <a:prstGeom prst="rect">
            <a:avLst/>
          </a:prstGeom>
          <a:ln w="0">
            <a:noFill/>
          </a:ln>
        </p:spPr>
      </p:pic>
      <p:pic>
        <p:nvPicPr>
          <p:cNvPr id="439" name="Content Placeholder 7" descr=""/>
          <p:cNvPicPr/>
          <p:nvPr/>
        </p:nvPicPr>
        <p:blipFill>
          <a:blip r:embed="rId4"/>
          <a:stretch/>
        </p:blipFill>
        <p:spPr>
          <a:xfrm>
            <a:off x="566640" y="2090880"/>
            <a:ext cx="816300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bl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mnesty.org/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- Amnesty International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Buchanan, Tom (October 2002). "'The Truth Will Set You Free': The Making of Amnesty International". </a:t>
            </a:r>
            <a:r>
              <a:rPr b="0" i="1" lang="en-SG" sz="2900" spc="-1" strike="noStrike">
                <a:solidFill>
                  <a:srgbClr val="000000"/>
                </a:solidFill>
                <a:latin typeface="Tw Cen MT"/>
              </a:rPr>
              <a:t>Journal of Contemporary History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37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(4): 575–597. </a:t>
            </a:r>
            <a:r>
              <a:rPr b="0" lang="en-SG" sz="29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jstor.org/stable/3180761. Retrieved on 2009-04-1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http://203.147.147.39/achievement/index.html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- AI Australi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3" descr="amnesty.jpg"/>
          <p:cNvPicPr/>
          <p:nvPr/>
        </p:nvPicPr>
        <p:blipFill>
          <a:blip r:embed="rId4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AI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71680" y="19335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Founded by Peter Benenson in London 196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ternational Non-Governmental Organisation(NGO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sson: 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“To conduct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research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and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generate action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to prevent and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end grave abuses of human rights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and to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demand justi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for those whose rights have been violated.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2.2 million members and support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3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n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5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2" descr="C:\Users\Peter888\AppData\Local\Microsoft\Windows\Temporary Internet Files\Content.IE5\Z664YCSX\MCj03605160000[1].wmf"/>
          <p:cNvPicPr/>
          <p:nvPr/>
        </p:nvPicPr>
        <p:blipFill>
          <a:blip r:embed="rId2"/>
          <a:stretch/>
        </p:blipFill>
        <p:spPr>
          <a:xfrm>
            <a:off x="2643120" y="2643120"/>
            <a:ext cx="3716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work AI do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Exerts influen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on governments, political bodies, companies and intergovernmental group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Mobilizes public pressur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through mass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demonstrations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, vigils and direct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lobbying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as well as online and offline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campaigning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Through appealing, AI thus pressures the ‘target’ to ‘respect the rule of law’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3143160" y="4946760"/>
            <a:ext cx="235764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cope of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Women's Righ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Children's Righ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Ending Torture and Execu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Rights of Refuge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Rights of Prisoners of Conscience (Refers to people imprisoned due to their race, religion, sexual orientation, belief etc, and those persecuted for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non-violent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 expression of their ‘conscientiously-held’ beliefs, so long as they have </a:t>
            </a:r>
            <a:r>
              <a:rPr b="1" lang="en-SG" sz="2900" spc="-1" strike="noStrike">
                <a:solidFill>
                  <a:srgbClr val="000000"/>
                </a:solidFill>
                <a:latin typeface="Tw Cen MT"/>
              </a:rPr>
              <a:t>not advocated violence</a:t>
            </a: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0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amnesty4.jpg"/>
          <p:cNvPicPr/>
          <p:nvPr/>
        </p:nvPicPr>
        <p:blipFill>
          <a:blip r:embed="rId2"/>
          <a:stretch/>
        </p:blipFill>
        <p:spPr>
          <a:xfrm>
            <a:off x="6215040" y="1643040"/>
            <a:ext cx="17859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ims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360" y="1599840"/>
            <a:ext cx="638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Stop violence against wome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Defend the rights and dignity of those trapped in pover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Abolish the death penalt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Oppose torture and combat terror with jus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Free prisoners of conscien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Protect the rights of refugees and migra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Regulate the global arms trad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6572160" y="4500720"/>
            <a:ext cx="20005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5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5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7" dur="500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AI does her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Campaign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Mobilise public opin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3 Types: Individual, national or themati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Direct appeal (such as letter writing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Media and publicity work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400" spc="-1" strike="noStrike">
                <a:solidFill>
                  <a:srgbClr val="000000"/>
                </a:solidFill>
                <a:latin typeface="Tw Cen MT"/>
              </a:rPr>
              <a:t>Public demonstra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Fundraising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often coupled with campaigning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Urgent matters: Urgent Action (UA) appeals (involves 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urgent action networks or crisis response networks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Other matters: Membershi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"/>
          <p:cNvPicPr/>
          <p:nvPr/>
        </p:nvPicPr>
        <p:blipFill>
          <a:blip r:embed="rId2"/>
          <a:stretch/>
        </p:blipFill>
        <p:spPr>
          <a:xfrm>
            <a:off x="6357960" y="2143080"/>
            <a:ext cx="2500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500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ow AI does her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Issues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press relea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Publishes information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in newsletters and on websit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Official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missions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to countries to make courteous but insistent inquir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ublication of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por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Involves research via interviews with victims and official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Observing trials and thus evaluate them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Collaborations with local human rights activis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309240" indent="-30924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Monitoring the med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onale for her wo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AI envisions for everyone to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enjoy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all of the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human rights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enshrined in the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Universal Declaration of Human Rights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and other international human rights standard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To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prevent and end grave abuses 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of the rights to physical and mental integrity (defined within </a:t>
            </a:r>
            <a:r>
              <a:rPr b="0" lang="en-SG" sz="27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scope of work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Argues that human rights abuses anywhere are the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concern of people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everywhe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Outraged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by human rights abuses but </a:t>
            </a:r>
            <a:r>
              <a:rPr b="1" lang="en-SG" sz="2700" spc="-1" strike="noStrike">
                <a:solidFill>
                  <a:srgbClr val="000000"/>
                </a:solidFill>
                <a:latin typeface="Tw Cen MT"/>
              </a:rPr>
              <a:t>inspired</a:t>
            </a:r>
            <a:r>
              <a:rPr b="0" lang="en-SG" sz="2700" spc="-1" strike="noStrike">
                <a:solidFill>
                  <a:srgbClr val="000000"/>
                </a:solidFill>
                <a:latin typeface="Tw Cen MT"/>
              </a:rPr>
              <a:t> by hope for a better world, they go about doing their work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5" name="Picture 3" descr="amnesty.jpg"/>
          <p:cNvPicPr/>
          <p:nvPr/>
        </p:nvPicPr>
        <p:blipFill>
          <a:blip r:embed="rId2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llenges faced by A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6196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Criticised for ideological bia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One-sid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Failure to consider threats to security as a mitigating facto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900" spc="-1" strike="noStrike">
                <a:solidFill>
                  <a:srgbClr val="000000"/>
                </a:solidFill>
                <a:latin typeface="Tw Cen MT"/>
              </a:rPr>
              <a:t>Criticised for reporting disproportionately on relatively more democratic and open countri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However AI argues that its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intention</a:t>
            </a:r>
            <a:r>
              <a:rPr b="0" lang="en-SG" sz="2600" spc="-1" strike="noStrike">
                <a:solidFill>
                  <a:srgbClr val="000000"/>
                </a:solidFill>
                <a:latin typeface="Tw Cen MT"/>
              </a:rPr>
              <a:t> is not to produce a range of reports which statistically represents the world’s human rights abuses, but rather to apply the pressure of public opinion to </a:t>
            </a:r>
            <a:r>
              <a:rPr b="1" lang="en-SG" sz="2600" spc="-1" strike="noStrike">
                <a:solidFill>
                  <a:srgbClr val="000000"/>
                </a:solidFill>
                <a:latin typeface="Tw Cen MT"/>
              </a:rPr>
              <a:t>encourage improvem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3" descr="amnesty.jpg"/>
          <p:cNvPicPr/>
          <p:nvPr/>
        </p:nvPicPr>
        <p:blipFill>
          <a:blip r:embed="rId1"/>
          <a:stretch/>
        </p:blipFill>
        <p:spPr>
          <a:xfrm>
            <a:off x="7858080" y="142920"/>
            <a:ext cx="1104840" cy="108576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le 4" descr=""/>
          <p:cNvPicPr/>
          <p:nvPr/>
        </p:nvPicPr>
        <p:blipFill>
          <a:blip r:embed="rId2"/>
          <a:stretch/>
        </p:blipFill>
        <p:spPr>
          <a:xfrm>
            <a:off x="2859120" y="1285920"/>
            <a:ext cx="3365640" cy="11462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"/>
          <p:cNvPicPr/>
          <p:nvPr/>
        </p:nvPicPr>
        <p:blipFill>
          <a:blip r:embed="rId3"/>
          <a:stretch/>
        </p:blipFill>
        <p:spPr>
          <a:xfrm>
            <a:off x="6215040" y="1571760"/>
            <a:ext cx="150012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1:29:48Z</dcterms:created>
  <dc:creator>Lixin</dc:creator>
  <dc:description/>
  <dc:language>en-US</dc:language>
  <cp:lastModifiedBy>Lixin</cp:lastModifiedBy>
  <dcterms:modified xsi:type="dcterms:W3CDTF">2009-04-19T04:57:47Z</dcterms:modified>
  <cp:revision>25</cp:revision>
  <dc:subject/>
  <dc:title>Amnesty International</dc:title>
</cp:coreProperties>
</file>